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F01-6B30-4370-95A5-FB1142D9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3C8-5F05-4BB6-BD3D-5EB94F6A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EF7B0-F631-4C3B-B19C-F63FB975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5EE10-4771-41E9-A79B-32AC9EF8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6C073-A950-46D9-93D6-6D6E4E3F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7235C-F58C-4646-A95B-D3F3B97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4CE9F-2063-4296-B849-F77E583B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06223-F297-47B3-BFE7-E2F85923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BCE75-CC07-4E85-9253-8BC64076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F3419-6AF4-4636-B4C0-630BE460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50E14-0249-47BF-8AA3-1ACB7C21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13FFD-6AFB-4623-ADC5-61D7226B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E0B-3DA8-48FC-95E0-6D67298D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7DF15-6BA8-4107-ACDE-720513CF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9A6D1-E921-466D-8D23-80903FF5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65BDA-CACD-44FF-BEBB-2BC57A6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75278-2E65-4CD0-8037-9EEE9EBF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2231B-D9BD-481C-997A-DCBEA2C0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7ECE2-5E2F-45E4-BB7D-2C5035D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2FB63-C9A2-4FE1-B587-8FDB749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E392E-5B72-4E36-B97B-59FC4EF6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6F92B-E9DF-4621-BAB4-8ADFDA95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C0B1F-FD21-4B7D-B441-2E9113DC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848-9BA6-4E50-AAE6-8203F2DE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EACE7-FADE-4573-B72D-E6454D4A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949D2-B65C-48E0-ABD8-20434938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0C649-A0C0-4682-A167-16F23E6E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1F54B-D255-4016-94DC-35D7A448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D53A8-B9DC-4742-924E-58FF9113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0707B-6C30-4034-B69E-81E68CEB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E76A1-3831-4BE8-94C0-1DB8B356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62413-444A-4375-97BE-A5EEA77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49F65-92D1-461E-A2D5-4E235690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99A4C-F865-4BD9-ABEF-9E727C7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74DE-861E-40CE-B394-18F4089D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653A9-3205-46E1-92DC-5BECB40E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C59B9-C4FD-4A03-BBC1-C05A222F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3EC4A-D032-4A96-AF14-EEE45ABA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4DE9A-68B9-47B6-A712-D66EEBCC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8B496-502F-4788-9126-72FCFD69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876BB-A5ED-49B1-A363-AC511D6B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2E80E-2D0B-484B-8A16-AF9B98E1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01779-41F4-4903-934C-9B9309B4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6E59F-64AC-4F12-B4F5-589319D0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D036E-D45F-4463-9B12-22AB746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FC50-A650-4B7B-8F52-5D32F5CB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CA89B-E25B-4842-B343-19C0528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8E8E7-1A49-40E3-AC00-9B0BA48F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FE660-CD5E-4C9A-897B-127E00D8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6C597-9D11-40B1-A6EE-0293B243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D2E5B-A2C6-41B5-9DA2-D946CC9D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26D52-B28A-4826-9523-F98BA11A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438F6-D4E9-4193-BF30-1AF31FEA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3266B-D96E-4659-AC8E-6A3C1A56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B969B-FE17-4E7C-A8EF-278B29E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93F96-595A-466B-B158-F5D59777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9061-9DAD-40EC-9460-52B2D618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C11D1-79D5-4247-9278-FC6E5775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255C8-5505-456B-8F21-4D4DF76C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DABC4-887F-4012-9BFA-0AFA09DB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81BF1-7FF6-4627-9D0F-F499371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3BBCF-5358-4099-B27F-CEF29349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9409E-3A9B-468F-AEE1-42025FC7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F31FF-2B03-4E4E-9BDC-3F5AF923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5CE90-293B-497C-9EDF-E760121E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33D7F-CE88-4FB1-8D62-5BDD12E6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62D6B-9C89-45F0-BBDE-CA805C46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84C-DC7C-46DA-869D-0124C48B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30762-76EB-420F-B515-5614635C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EACEF-F03B-4374-BC50-21BC553A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A95AC-8EF3-4309-B97D-55B0CCC2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F6556-4AA0-4FE0-BE4F-B11A9CC4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8B4EF-0470-481A-B6BA-B8F2141A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2F660-14A8-4FC8-85F4-07D0714C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BFC6D-6613-44E0-96DB-F01DAC13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ACD77-4501-4D43-9973-82706CC8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F1982-4926-4BD2-9183-25D10FDA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573AF-2640-437A-A96D-B222DF94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0E2E-F4A8-49CC-BC1E-956B284B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A9F4B-7FC4-442F-BB00-AD6F1E86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D3236-9B36-4853-B4B6-FF48AD8D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35131-2FAF-4BCB-9501-F1D68BE3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BC414-225B-40E0-80C4-48166991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5409D-ED0B-420C-B059-0F767DA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66DC5-E5AD-41BB-BE4D-7846205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74F06-1BEF-427B-87B7-7FFF2DF8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4055E-5A3F-48EE-9804-A47DE9A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7DEF1-B13B-4FB6-BA88-17935914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BA323-3912-44C6-A498-DCDF5661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7719-A6E4-4C2C-A73B-44D07BD2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B81DA-D8A1-40EC-8FF9-77CCC29D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983A1-FF67-4A75-ADA4-00BBE476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71268-742E-40F9-A905-2FCCB6BE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F6589-6DB6-4A96-A783-60E6B7B9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B6A6A1-F8DF-40B0-A996-0789A5BB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7BDFA-D9F1-46AA-8DA3-622BCC6A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8E5FD-681D-40CD-97CE-421B4154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C720D-FBA2-49F1-8715-9AA58FD4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EAF11-0029-462A-80F8-D58F4305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00CF6-9922-456E-87DC-A6A02848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C246-1F1F-479F-A29E-98ED2F3B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B083D-999A-4D08-A17A-00172A4D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E4DCEC-1D60-47BC-AAFF-33FA492D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4D435-C651-428B-86B0-C6BFBE55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A906B-2E83-4FFE-83C9-C1018256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0F367-13F4-400D-93AD-0A112310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43C81-E404-45F8-83E4-0A867CA3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B6CCC-C284-4E90-B4E8-634DA741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78E3E-98FB-4751-8328-197F2F20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C2D1E-FCB5-47B5-98FD-2E6C22A8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016AF-A576-4201-A61A-FB708CE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5F4-177B-447F-9D59-E5591CD7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D5F5-CD1D-4318-8CF9-730AE0E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EF529-C624-4AA6-96FD-DA14F72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4A3FA-1DCC-45D4-8BC0-53CF3DC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CEA1C-AFF3-49CA-B6BB-C0A3586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6968C5-A27F-424A-95D3-AECEF623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CD377-BA36-4A66-8F08-9A03F3A1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89581-497D-4149-BE71-2190B71F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63BFE-A636-4CF4-872E-4DB8762B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28DC1-19E7-4669-A918-9106AE23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ADD55-6626-487C-9666-91E8836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436AAD-1F20-4D1B-940B-A53FF511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0E6D-59E2-4A71-8914-C2253E13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5BC22-90C9-47FC-AC9F-C380DDE6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3831D-66D5-4D48-9A11-7B91988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B1382-E2F0-4F6E-A970-85B31D8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972F41-8264-447E-B99A-CBB2DC98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88A95-817C-4B0B-AD4C-BB4BF403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0452F-2467-4AE3-84A3-8C824D48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1577D-0966-47EF-A364-92310951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E8C37-B385-436E-A3B6-8A5370E4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26D7D-2181-416F-A117-735226A6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ABBA7-9C91-4FD5-ADE2-CF1240B5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99E3-DEFA-4DD2-B95C-DDE8BE0A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30C5A-9B64-423F-9C33-BA60B85D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803BE-86D5-4FE0-8774-F5DD67A1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D766F-4880-4CC3-91BF-496E351B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1C4B2-A1EC-485E-A107-FE545A7C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997E1-BCD4-452D-A9EB-74DB3D7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3E0A3-7C66-443B-8D62-F069745E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AB897-EA6D-4863-B6C7-2BF0138D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CBA3D-FDB1-4F18-8B67-6EACB3F1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1AD34-F2AE-4BF5-AC9F-C7892755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4514F-0EB8-4991-B13B-FD5A75A9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94EB-1511-4438-92BF-6D1A45B4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58B6E-3583-4505-8992-58CB7AC5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CB807E-B210-4CD1-A597-01AA93A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5D16FA-50A0-4FAD-81BE-BB81D6EE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5E2723-2A65-4A07-B62B-2F28A4E4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D4DAA-D7BE-4DDF-8D34-A0DFDFBD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67D48-F31F-4FDC-832B-9E12BCC0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091A31-7DEB-4C94-884E-3E397F0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FB757-E092-42C3-ACC4-425573B3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37537B-DD29-40CB-BCF2-66ADBF47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15FAD3-7E10-4C40-9BE6-79794A99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743D-CB4A-42F5-8717-BBEF8893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52B9A-478C-4451-B5FA-59876E6E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2A58F1-1DC4-4B8B-B744-62219926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373AF8-3D0F-4108-BAF9-401F5B08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4971DB-7840-45B0-8E66-69AB0C15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E0E6A-88BB-472B-A156-A0864021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C51C2B-FCD7-4CD6-9BAA-0CDC958C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668F87-B39B-425B-8CF2-71DBBB09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472A6-976A-4010-BA61-E0192ED4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AA97BC-031F-46D9-9D1C-F76F47A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400FC-BC99-4DF6-B4D0-2ED72C3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C280-E07E-41BB-92CE-57A469B7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41819A-2504-479E-A7D6-071F0ED4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9DFF2E-544E-4AFF-8C36-DE04AC03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CC8DA-EE53-4801-A36F-202C77CF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CF2166-AEAC-49E0-829D-EF81811A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21383D-96E2-4487-B77E-C9CAF87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990AC1-C657-406E-8DC1-FE19FF1C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B442D6-AA6F-48F2-871B-E30BED2C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108A2E-2A07-47FB-9908-F04C8747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1AB2C1-40EA-4E6C-9754-583D334E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BED6DA-86A0-4EEE-A216-176EEAE9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28C4-CB23-4B22-8977-C0ADFB41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6ADB83-A8F4-4654-B2E8-8A99989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71B360-EDBA-4F83-9333-AD1E9720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ED4DBD-AEB7-41B5-BA1C-EA016783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D492A9-5864-4EFD-8F8E-56A567C9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C9015B-4610-4359-BE4C-94C0D215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67EC6F-CE73-4996-95B8-C9CFCE6D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96470A-320C-4B24-B583-F1AC85D9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5A2553-A8F9-4D74-9C33-0A5D398A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13E3B5-1A2D-4395-B150-2125A03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4256C6-7ABA-4FA8-9951-635DA31D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6D81-21D6-4DCA-A1A7-E9E4E2C6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B32922-A6BC-4C6F-A6B9-A1DC89BB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DAE42B-2B28-4151-BC7F-B167B0AF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145D28-95FF-4180-9000-46B84981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3AB46B-7610-4BF4-9F90-D124BCC8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716CEA-E276-47E1-BBB9-D7A5F262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108102-B3A6-46E7-A82E-DD6776A5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0EE312-4E07-4CA8-B300-059B3567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F55E-207F-40F6-ADAC-AA2FC1DD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E5A7-FA46-45C0-AB70-AF8874AE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8D6-2056-4F8B-A01B-85F278BC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66564-D189-4F85-9810-DED9848F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40CC-66F0-4F34-A47A-19ACE5EA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1655-94A7-48CF-8BBE-B84F4E21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E619-D102-42F9-9607-EBA800E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C2CC-529D-455E-B0F1-83C1229E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9CD98-E8B2-4DB3-B34E-C2F9F365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1E55-1F5C-4EBD-89FF-CC37F201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3D52-7F54-4FB6-841E-655924B6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05C9-89BC-4692-B21A-400E0637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BCA2-A32B-427C-91B0-7CAA52BC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640-07F9-4B79-A0AB-844A9559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3ACE-79AE-44E9-B80E-A4324484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857A-C3CC-45F7-91D6-1BBA64D4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75A1-0120-4ED3-A72D-CEAB2BC2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734E8-3055-4E37-A1CA-AD16485B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A6FF-D279-46A3-ADAD-18F7FB9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1023-6191-47BE-93B5-0FD71139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E7BD-63ED-4DD1-9583-14B80C10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B50C-1702-417E-9970-E09A3C2A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BC21-CEE8-4E28-99D7-226EA697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3A79C-71E9-41E6-AB41-B1AB7444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817-5521-4A00-979A-2BFAEBA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9679-6D0E-4B80-B030-25C34929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9EDC2-721C-4B04-95B6-7C37EC3E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7769-CC8C-47AB-8F52-23CE021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AB2EF-2B17-43D9-B79D-30DC0DD1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53A4-506A-4301-8BFF-93F84D0A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2001A-0609-4D43-BA70-335E322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C6D3F-4A03-435C-B4E8-978D75DC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D2EDB-CDA8-4605-8C7C-52501D8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4FC09-4148-401D-8C1D-287FE951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3A813-CF5A-4BE9-B1C9-00BE55A8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BD8-9BB5-4DB3-B8D1-0F6C65C8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043CE-032B-4232-80FF-545F72E6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DF1F-2F6C-48E7-872E-675DB6F0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156DD-EC5A-4B4E-813A-D0CA77FF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732B-B9B1-4C8B-B6FA-BC48489F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E507C-C3CD-40A3-9BF4-E3EA059F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96F45-056F-4AEF-B4B1-12B7E9EB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052E-350C-403D-A124-A0DF1EE1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DC29-6205-43E1-9B6E-5D84B7EE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5B6D4-BD27-4B11-97F0-0FE70483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4619-5020-4232-855D-1E98414C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8C4-9BDE-48D5-8E75-1AAFB985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83A2-38C5-495A-92D4-579ECC9A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9014-581F-4123-B545-9B5795B6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0E72-6C4A-4112-A884-6C16FCF8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71364-00D5-49CB-B4E6-22333E94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BFBD4-9A75-4089-B955-1FBAC389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9564B-F534-446E-8AD4-33B028D5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43C6A-8A86-4FB7-A5E7-F802CB6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F2670-F42C-4354-BCF7-BD9F074D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6C69D-62A3-444D-B566-BD4E7F6B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0A161-A799-4B48-BDA3-16FBA3C3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DE3-D76F-423B-B945-89B14DA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1771E-4116-4FDD-8EAF-18466AAA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6F137-5F12-470C-BDCB-60688FFC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9826-DDCA-4DCD-A91B-B6B60AFE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2302F-429D-422C-9221-28B90E21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6E6EF-F5FF-49BA-BC37-82A51CFD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163F7-1E4D-4207-88FB-4A93CA37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533A2-E480-44FD-A4FF-A653282F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FA757-482F-42EE-B3AB-7869069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54ADE-273F-4B16-B3A0-7AD824D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479BF-00F0-4513-BACF-986FE019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97B-EAAC-44D8-9D77-E99F044B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53914-FBC7-4251-B00B-388A94C1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72B69-53D1-4B73-9E96-1AAD131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1891-90FC-4455-963F-BFA09674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C2D84-89A3-4C94-BF1E-68FC8EB3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7F781-AF33-4E18-A97D-8877D471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0EE00-FD05-4600-BFB0-DEEA0EEA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119B2-36BB-44C8-B0A0-18B519A6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82706-9DDF-46CF-85CA-49D1FA54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C6F4F-3277-4BCC-9E44-BB186118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C819A-009E-45BA-8970-A2BE659E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9334-E9BF-4970-84C0-E9F1E1EB0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46FA-2A06-4B1E-9828-CD32B92A92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A3CB-8C70-4C5E-8DE3-AC421D1DD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8115-231C-43D5-AA06-A37B1FF16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84C5-53C4-48F6-8CBD-3E057B745D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37EF-3EDE-46F5-9775-2699DA3143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F52E-23FE-4F01-8127-317718585B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80E7-6B4E-45C2-A5FB-B04D0CD177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AF37-F403-4D41-8A8F-BAEE733595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9A4A-99BE-4423-958E-DBB91D0DBD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1922-DF71-4CF5-A667-FF02C1E2C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A23E-5B55-41DA-8518-AD9087EFA6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BEF5-7940-47BF-B19D-4100BB117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1A52-E5EB-4FC3-857C-4DFD253549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975-DE48-45D1-8726-DE87CEAEEA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3643-1E67-433E-8ACF-1A903C136B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D4AA-912A-41DC-AA35-D98DB62395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2B0F-AA76-43CA-BF11-FCBE0D041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F2FF-3178-438C-93B3-F5E2351A12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0213-B2CB-4429-A742-610AFFB042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E293-276E-4895-93CD-78510932F7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B984-378C-41EE-9969-5007B9466F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B606-B2DD-4D40-ADDD-DFF05F9A35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EBC0-1FF4-4F30-B6A1-FC7F841590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1C69-BBE0-4310-AAC3-65AC819AA6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62B6-5F87-4410-8D33-17B1217B55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202D-8F6B-4735-8FF3-37A2B72EE3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1B94-4408-41FD-81D5-B99A448D12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FFEA-A5A1-41FC-A4E5-68629B5B67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E7AA-A72D-43D5-9BDE-0AA31C549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6A96-B539-4211-96ED-AFA3FE3602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4CD1-6BA7-488D-89CC-6281727A02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3683-6DCB-47FF-98ED-A1B66A804A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ACD6-15C0-4E11-AAE2-CA04AD7831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B4A4-BF29-4596-B862-FE2E03E32B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2A1F-8D3F-4132-9FA6-0314335D9D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2B89-F85B-49CA-BF61-6F6842B02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D294-59D7-4299-820F-93FEAE933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2A91-8CDB-4E74-A5ED-3EA1772B14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9BA4-E411-47E6-B81A-BB5C812B46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7FE5-349C-47F5-80DF-343EB5D462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0686-8906-4653-A28F-F5F7AAC18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0600" y="2878200"/>
            <a:ext cx="8902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571680" y="957240"/>
            <a:ext cx="8124480" cy="566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54738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332000" y="4005360"/>
            <a:ext cx="547344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332000" y="4724280"/>
            <a:ext cx="547344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332000" y="5445000"/>
            <a:ext cx="54734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258920" y="6093000"/>
            <a:ext cx="547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76120" y="1428840"/>
            <a:ext cx="8591760" cy="4000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258920" y="486900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586480" y="430704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586480" y="4883040"/>
            <a:ext cx="345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85640" y="2257560"/>
            <a:ext cx="8172720" cy="23428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684360" y="364500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146560" y="3068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219640" y="3645000"/>
            <a:ext cx="345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90440" y="992160"/>
            <a:ext cx="8763120" cy="5295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900000" y="5013360"/>
            <a:ext cx="583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684360" y="5661000"/>
            <a:ext cx="583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62080" y="766800"/>
            <a:ext cx="8619840" cy="53244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971640" y="286704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971640" y="4724280"/>
            <a:ext cx="59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597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85760" y="847800"/>
            <a:ext cx="8772480" cy="5162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971640" y="302580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187280" y="4292640"/>
            <a:ext cx="590580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87280" y="4941720"/>
            <a:ext cx="59058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611280" y="5516640"/>
            <a:ext cx="590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204840" y="1600200"/>
            <a:ext cx="87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47560" y="952560"/>
            <a:ext cx="8048880" cy="4952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611280" y="1065240"/>
            <a:ext cx="7993080" cy="1139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48258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258920" y="3068640"/>
            <a:ext cx="48258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116000" y="3789360"/>
            <a:ext cx="482616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324000" y="4479840"/>
            <a:ext cx="828036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95120" y="824040"/>
            <a:ext cx="8753760" cy="5810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900000" y="326880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755640" y="458136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55640" y="530064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84360" y="5978520"/>
            <a:ext cx="626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7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